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5CA-1D1B-4EEF-BB5D-27C30672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B21-7305-49AD-A6EF-5BA18AEC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FA2-CAB7-498D-A529-B23116C4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274-7D53-4041-B652-36C15FAE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046B-743A-43F4-A4A3-54389D7E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75B4-AD9D-46F5-926D-96C79015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4C5C-45DA-40E7-A253-3F427346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8DF4-9DC6-44D3-9A87-EB0E0624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F181-F709-4ACE-B315-AAEDD7B5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F786-B13A-461E-AE92-2FCA1C59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D518-A734-41A9-98CA-DECCFE11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EFE-D8A4-4613-BBB9-8B7DB267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29E0-12F7-483C-BC72-F317157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B331-D677-463A-9AA3-CD04C85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F049-FE54-4EBC-973B-FAD3330C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A87C-7B54-47BE-B39C-75208683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C820-2A8B-4117-B41F-AA45B0D1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E587-ACDF-4454-BF05-E3F3656F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6E7A-EE35-47C1-AD8D-27032E93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6FC2-5A58-406D-A8BF-F2E1BC71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29B2-3A04-4AFD-8F67-EF7E7B75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AA9B-82D0-4D9F-BEFE-9FCE3118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943-2BED-4D96-9369-161493EE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586C-6E36-47B7-87C9-380FD3C3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C815-843D-40FB-AEF2-F7211532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EF76-DD5A-458E-A533-D38C6749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406A-DCF9-4596-8149-5DA8F66F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7704C-26AB-4C89-BEB7-A60E66D3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8837-3196-4790-BC38-2B489249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54E4-9DD7-4CC9-AFC4-3C9C7B5A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DA853-99CF-402A-AABF-CACD71BE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6362E-A04B-4BC6-BFFE-C73051F4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33B5A-D031-48FB-B7D8-0BCEF6D0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662-E7E9-4A1C-949B-1795A543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21B4D-DF7B-4892-930C-10A3EECC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9BDA-2B40-4B24-BBC3-68C6FE86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FAEE6-6B15-4F62-9553-19D29684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927B-922D-4E05-9A5E-A0935C76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D775C-68C0-452E-8460-5FDC0A88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8856B-3D28-4A11-9122-5E30126C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851C4-FF9E-4A09-9D05-514ED9DE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342E-8136-4CE1-9ED4-1B77F488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D6CD-369B-4E70-8EC4-129BF822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0167A-1AC1-412A-B73B-1B76AF1F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936-CD97-4BBA-82CB-1F4E029D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FD623-EF22-4291-86A3-55775EE8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BB2AB-CF18-4888-ABD4-A36909F8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9DDD-74AF-4B50-8616-8CF0D213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C26E7-77F4-44E7-A9C3-6A1C3ECE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35885-6959-45D7-A77A-AC0210C2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1D71-A503-4AFC-81FB-BEE7863D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E4F53-D042-4B2B-B210-2A0D11E5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60524-B07B-4702-BDA5-7EF80752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C0BFA-4DF9-455A-8BCD-55A37B3B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1163-3A57-45B6-941E-B804C374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942-E7A9-4254-9419-9BAAAD8D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16D1-8D46-4714-B960-2D1FB37F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2303-6362-4E1F-ACC9-21D9863D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C70A9-D3D3-42F5-A705-9909D247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80E58-3450-485F-8FB7-53F05B97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0CA52-CE5D-4C1B-A798-A88BE866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2BBAE-259E-47E5-8644-AD5E8817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E36F7-7AA4-431A-B2B0-F78D580A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C658C-F196-4195-B93C-D51EEA27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1BA69-7242-4B8D-97E2-FA19BB2C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8DE24-4524-489D-9ED0-EE6B663A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5DD-2842-4DC1-A81C-6E089AA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45CA5-2259-4DC6-883C-1F80FAB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CAE82-D015-4A1C-8A77-D34CA8CB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E3E2F-BA42-416F-A098-4177EE30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C8F-489D-4DFA-8631-60E211F1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4E4-CBEF-4705-8931-38DAC2E9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CD10-6BCE-495D-9ED0-C77E48835B6C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6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6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681F-7AEE-48DD-ADEB-42B64257B024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A05E-1F64-480F-87BD-BCDF2A4A190E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6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6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3874-86BD-4E3C-86EB-D4721C179443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10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10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CD93-DC71-4711-A107-442B8D0E19BD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7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7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681B-F214-423C-A720-05566492C70B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894880" cy="11397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364000" y="1125360"/>
            <a:ext cx="360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e3b30"/>
                </a:solidFill>
                <a:latin typeface="Franklin Gothic Book"/>
              </a:rPr>
              <a:t>Nos encontramos en la periferia latitudinal y altitudinal de las zonas con relieve glaciar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e3b30"/>
                </a:solidFill>
                <a:latin typeface="Franklin Gothic Book"/>
              </a:rPr>
              <a:t>El agente modelador es el efecto hielo-deshielo</a:t>
            </a:r>
            <a:r>
              <a:rPr b="0" lang="es-ES" sz="2000" spc="-1" strike="noStrike">
                <a:solidFill>
                  <a:srgbClr val="4e3b30"/>
                </a:solidFill>
                <a:latin typeface="Franklin Gothic Book"/>
              </a:rPr>
              <a:t>, que provoca gelifracción, que se produce cuando el agua penetra en las diaclasas y se congela, rompiendo la roca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e3b30"/>
                </a:solidFill>
                <a:latin typeface="Franklin Gothic Book"/>
              </a:rPr>
              <a:t>La acumulación de rocas gelifraccionadas da lugar a canchales o depósitos de fragmentos en taludes y conos de derrubio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e3b30"/>
                </a:solidFill>
                <a:latin typeface="Franklin Gothic Book"/>
              </a:rPr>
              <a:t>En áreas llanas se desarrollan suelos poligonales y almohadillado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14" name="Picture 5" descr="periglaciarismo_gelifraccion_04"/>
          <p:cNvPicPr/>
          <p:nvPr/>
        </p:nvPicPr>
        <p:blipFill>
          <a:blip r:embed="rId2"/>
          <a:stretch/>
        </p:blipFill>
        <p:spPr>
          <a:xfrm>
            <a:off x="900000" y="1104840"/>
            <a:ext cx="3816360" cy="2475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Ibias_Muniellos_Valdebois_Canchal_con_Colmenas"/>
          <p:cNvPicPr/>
          <p:nvPr/>
        </p:nvPicPr>
        <p:blipFill>
          <a:blip r:embed="rId3"/>
          <a:stretch/>
        </p:blipFill>
        <p:spPr>
          <a:xfrm>
            <a:off x="900000" y="3614760"/>
            <a:ext cx="4392720" cy="2959200"/>
          </a:xfrm>
          <a:prstGeom prst="rect">
            <a:avLst/>
          </a:prstGeom>
          <a:ln w="0">
            <a:noFill/>
          </a:ln>
        </p:spPr>
      </p:pic>
      <p:sp>
        <p:nvSpPr>
          <p:cNvPr id="316" name="WordArt 8"/>
          <p:cNvSpPr txBox="1"/>
          <p:nvPr/>
        </p:nvSpPr>
        <p:spPr>
          <a:xfrm>
            <a:off x="3492360" y="3213000"/>
            <a:ext cx="15242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lifrac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7" name="WordArt 9"/>
          <p:cNvSpPr txBox="1"/>
          <p:nvPr/>
        </p:nvSpPr>
        <p:spPr>
          <a:xfrm>
            <a:off x="4067280" y="6165720"/>
            <a:ext cx="10191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nch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04920" y="1553760"/>
            <a:ext cx="8686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Al ser zonas de hielo-deshielo, los suelos se denominan </a:t>
            </a:r>
            <a:r>
              <a:rPr b="1" lang="es-ES_tradnl" sz="2800" spc="-1" strike="noStrike">
                <a:solidFill>
                  <a:srgbClr val="4e3b30"/>
                </a:solidFill>
                <a:latin typeface="Franklin Gothic Book"/>
              </a:rPr>
              <a:t>permafrost</a:t>
            </a: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 porque permanecen helados en superficie una parte del año, pero al deshelarse, esta capa superior se esponja y forma el llamado </a:t>
            </a:r>
            <a:r>
              <a:rPr b="1" lang="es-ES_tradnl" sz="2800" spc="-1" strike="noStrike">
                <a:solidFill>
                  <a:srgbClr val="4e3b30"/>
                </a:solidFill>
                <a:latin typeface="Franklin Gothic Book"/>
              </a:rPr>
              <a:t>mollisuelo</a:t>
            </a: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Al llegar la época de fusión del hielo se producen fenómenos de ladera, que implican deslizamientos de materiales por efecto de las pendient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Veamos los principales </a:t>
            </a:r>
            <a:r>
              <a:rPr b="1" lang="es-ES_tradnl" sz="2800" spc="-1" strike="noStrike">
                <a:solidFill>
                  <a:srgbClr val="4e3b30"/>
                </a:solidFill>
                <a:latin typeface="Franklin Gothic Book"/>
              </a:rPr>
              <a:t>fenómenos de ladera</a:t>
            </a: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50560" y="1125000"/>
            <a:ext cx="561636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Coladas de barro</a:t>
            </a:r>
            <a:r>
              <a:rPr b="0" lang="es-ES_tradnl" sz="2400" spc="-1" strike="noStrike">
                <a:solidFill>
                  <a:srgbClr val="4e3b30"/>
                </a:solidFill>
                <a:latin typeface="Franklin Gothic Book"/>
              </a:rPr>
              <a:t>: los materiales arcillosos, cuando están muy empapados, fluyen ladera abajo resbalando sobre la capa de hielo inferior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2 Marcador de contenido"/>
          <p:cNvSpPr/>
          <p:nvPr/>
        </p:nvSpPr>
        <p:spPr>
          <a:xfrm>
            <a:off x="6012000" y="1197000"/>
            <a:ext cx="2952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Reptación o </a:t>
            </a:r>
            <a:r>
              <a:rPr b="0" i="1" lang="es-ES_tradnl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creep</a:t>
            </a:r>
            <a:r>
              <a:rPr b="0" lang="es-ES_tradnl" sz="2000" spc="-1" strike="noStrike">
                <a:solidFill>
                  <a:srgbClr val="4e3b30"/>
                </a:solidFill>
                <a:latin typeface="Franklin Gothic Book"/>
              </a:rPr>
              <a:t>: los materiales que se empapan y se secan alternativamente sufren aumento y reducción alternativa de volumen, lo que hace que vayan deslizándose con lentitud ladera 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http://www.uvm.edu/~inquiryb/webquest/sp08/pmontgom/mudslide2.jpg"/>
          <p:cNvPicPr/>
          <p:nvPr/>
        </p:nvPicPr>
        <p:blipFill>
          <a:blip r:embed="rId2"/>
          <a:stretch/>
        </p:blipFill>
        <p:spPr>
          <a:xfrm>
            <a:off x="324000" y="2852640"/>
            <a:ext cx="5608440" cy="3786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ttp://www.madrimasd.org/blogs/universo/wp-content/blogs.dir/42/files/147/o_Reptaci%C3%B3n%20en%20kalipedia%201.png"/>
          <p:cNvPicPr/>
          <p:nvPr/>
        </p:nvPicPr>
        <p:blipFill>
          <a:blip r:embed="rId3"/>
          <a:stretch/>
        </p:blipFill>
        <p:spPr>
          <a:xfrm>
            <a:off x="5975280" y="4292640"/>
            <a:ext cx="31687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ttp://www.redes-cepalcala.org/ciencias1/Images5/islandia/geologia/periglaciarismo/periglaciarismo_suelos.almohadillados_01.jpg"/>
          <p:cNvPicPr/>
          <p:nvPr/>
        </p:nvPicPr>
        <p:blipFill>
          <a:blip r:embed="rId2"/>
          <a:stretch/>
        </p:blipFill>
        <p:spPr>
          <a:xfrm>
            <a:off x="150840" y="2276640"/>
            <a:ext cx="8785080" cy="4392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95280" y="1197000"/>
            <a:ext cx="8137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Se producen cuando se congela el agua del mollisuelo y el terreno se eleva por abombamient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http://www.madrimasd.org/blogs/universo/wp-content/blogs.dir/42/files/145/o_Gelisuelo%20superficie.jpg"/>
          <p:cNvPicPr/>
          <p:nvPr/>
        </p:nvPicPr>
        <p:blipFill>
          <a:blip r:embed="rId2"/>
          <a:srcRect l="0" t="11107" r="0" b="23488"/>
          <a:stretch/>
        </p:blipFill>
        <p:spPr>
          <a:xfrm>
            <a:off x="1403280" y="2997360"/>
            <a:ext cx="6264360" cy="3816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395280" y="1197000"/>
            <a:ext cx="8137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e3b30"/>
                </a:solidFill>
                <a:latin typeface="Franklin Gothic Book"/>
              </a:rPr>
              <a:t>El enfriamiento por debajo de la Tª de congelación implica contracción y retracción de los materiales de manera que se originan grietas poligonales que acaban siendo ocupadas por hielo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651280" y="1484280"/>
            <a:ext cx="3035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Son zonas donde apenas llueve, regiones inhóspitas en las que el viento modela paisajes característicos. Reinos de arena y rocas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3" name="Picture 5" descr="Cárcavas en el desierto de Tabernas, Almería."/>
          <p:cNvPicPr/>
          <p:nvPr/>
        </p:nvPicPr>
        <p:blipFill>
          <a:blip r:embed="rId2"/>
          <a:stretch/>
        </p:blipFill>
        <p:spPr>
          <a:xfrm>
            <a:off x="611280" y="1628640"/>
            <a:ext cx="5286240" cy="3981600"/>
          </a:xfrm>
          <a:prstGeom prst="rect">
            <a:avLst/>
          </a:prstGeom>
          <a:ln w="0">
            <a:noFill/>
          </a:ln>
        </p:spPr>
      </p:pic>
      <p:sp>
        <p:nvSpPr>
          <p:cNvPr id="334" name="WordArt 6"/>
          <p:cNvSpPr txBox="1"/>
          <p:nvPr/>
        </p:nvSpPr>
        <p:spPr>
          <a:xfrm>
            <a:off x="1979640" y="5300640"/>
            <a:ext cx="38289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árcavas en el desierto de Tabernas, Almería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9:31:07Z</dcterms:created>
  <dc:creator>Pedro F Martinez</dc:creator>
  <dc:description/>
  <dc:language>en-US</dc:language>
  <cp:lastModifiedBy>Usuario</cp:lastModifiedBy>
  <dcterms:modified xsi:type="dcterms:W3CDTF">2012-10-21T20:52:54Z</dcterms:modified>
  <cp:revision>60</cp:revision>
  <dc:subject/>
  <dc:title>AGENTES GEOLÓGICOS EXTERNOS</dc:title>
</cp:coreProperties>
</file>